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ct" ContentType="image/x-pict"/>
  <Override PartName="/ppt/media/image8.png" ContentType="image/png"/>
  <Override PartName="/ppt/media/image19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29.emf" ContentType="image/x-emf"/>
  <Override PartName="/ppt/media/image4.pct" ContentType="image/x-pict"/>
  <Override PartName="/ppt/media/image27.pct" ContentType="image/x-pict"/>
  <Override PartName="/ppt/media/image11.png" ContentType="image/png"/>
  <Override PartName="/ppt/media/image3.pct" ContentType="image/x-pict"/>
  <Override PartName="/ppt/media/image26.pct" ContentType="image/x-pict"/>
  <Override PartName="/ppt/media/image28.pct" ContentType="image/x-pict"/>
  <Override PartName="/ppt/media/image24.pct" ContentType="image/x-pict"/>
  <Override PartName="/ppt/media/image23.pct" ContentType="image/x-pict"/>
  <Override PartName="/ppt/media/image21.png" ContentType="image/png"/>
  <Override PartName="/ppt/media/image20.pct" ContentType="image/x-pict"/>
  <Override PartName="/ppt/media/image18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25.pct" ContentType="image/x-pict"/>
  <Override PartName="/ppt/media/image2.pct" ContentType="image/x-pict"/>
  <Override PartName="/ppt/media/image16.pct" ContentType="image/x-pict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E90-2BE5-4831-972B-47B5BAD2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B9E-D5B7-498B-8D31-6B58A41F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702-F4EC-4A0A-BE4E-451E7F63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C1A-B109-499B-9CF1-62109566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EB7-E915-4814-ACBC-769A3DA8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486-F864-4554-BECE-9A877EEC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17D-54AE-4C51-83DA-1595A4E8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845-AE12-44C6-8433-13BDB588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F6F-D2D9-4E47-A193-04539A9A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7FB-73CB-4A73-AE43-9A6FD0C4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507-7ACE-4003-949B-4BA9D975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BE1-F010-4197-B533-40C53B72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66F3-F983-4927-92D0-D91002A3B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ct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image" Target="../media/image29.e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-838080"/>
            <a:ext cx="774396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apter 3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hysical Fitness and Health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228600"/>
          <a:ext cx="2427120" cy="350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28600"/>
                    <a:ext cx="242712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29400" cy="6629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"/>
            <a:ext cx="845820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Flexibil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bility to move a body part through a full range of mo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 Sit and reach or sit and stret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440" y="379440"/>
            <a:ext cx="6097680" cy="609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380880"/>
            <a:ext cx="838188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Muscular Streng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mount of force a muscle can exe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push-ups or pull-ups (upper bod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url-ups (abdominal strength)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457200"/>
            <a:ext cx="853452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Muscular Enduran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bility of muscles to do difficult physical tasks over a period of time without causing fatig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 leg li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853416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Cardiorespiratory Endura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bility of the heart, lungs, and blood vessels, to send fuel and oxygen to the body’s tissues during long periods of vigorous activ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st: 3-minute step test, mile r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808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Lesson 2:  Exercise and Fitne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0880" y="1752480"/>
          <a:ext cx="2965680" cy="454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296568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28600" y="228600"/>
            <a:ext cx="8686800" cy="63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enefits to Physic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rong body, reduce chronic fatigue, strengthens body’s muscles, skeleton, and other moving parts.  Protects against dise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19920" y="1219320"/>
          <a:ext cx="2936880" cy="160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1219320"/>
                    <a:ext cx="293688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-1981080"/>
            <a:ext cx="8839080" cy="8839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228600"/>
            <a:ext cx="8534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tributes to the functioning of the nervous system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(improved reaction time)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circulatory system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(strengthens heart muscle)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nd respiratory system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(increases lung capacit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Exercise and Weight Contro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06668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ne out of every three American adults and one out of every five teens is overweight or obe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4038480"/>
            <a:ext cx="8458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is situation can be traced to overeating and a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SEDENTARY LIFESTYL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a way of life that requires little movement or exerci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380880"/>
            <a:ext cx="830592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Problem of Overweight related to two concep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Metabolism-process by which your body gets energy from f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Basal Metabolism-minimum amount of energy required to maintain the life processes in a bod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52280"/>
            <a:ext cx="8763120" cy="73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alorie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units of heat that measure the energy value of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r metabolic rate increases during exercise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If you take in fewer calories               than you burn, you </a:t>
            </a: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los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e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If you take in more calories                 than you burn, you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ga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e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179280"/>
            <a:ext cx="83059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Lesson 1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Physical Fitne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and 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181480" y="2438280"/>
          <a:ext cx="355608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5608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2286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One pound of fat=</a:t>
            </a:r>
            <a:r>
              <a:rPr b="1" i="1" lang="en-US" sz="9600" spc="-1" strike="noStrike">
                <a:solidFill>
                  <a:srgbClr val="ffffff"/>
                </a:solidFill>
                <a:latin typeface="Times New Roman"/>
              </a:rPr>
              <a:t>3500 calori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76800" y="1905120"/>
            <a:ext cx="4867200" cy="4267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600"/>
            <a:ext cx="838188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enefits to Mental and Emotion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uce emotional stress, sleep better, refreshes people, healthy outlet for tension, anger,or frustrations.  Sense of pride and accomplishment.  Positive self-este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00800" y="4724280"/>
            <a:ext cx="2440080" cy="2440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304920"/>
            <a:ext cx="861048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enefits to Soci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m new friendships,workout more enjoyable, motivat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40080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68680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Aerobic exercise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vigorous activity in which oxygen is continuously taken in for a period of at least 20 minutes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(jogg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wimming, dancing, brisk walking.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6880" y="4572000"/>
            <a:ext cx="2210040" cy="201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440" y="379440"/>
            <a:ext cx="6097680" cy="609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380880"/>
            <a:ext cx="8382240" cy="60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Anaerobic exercis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nse burst of activity in which the muscles work so hard that they produce energy without using oxy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100-meter dash,calisthenics, weight train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763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Lesson 3: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Times New Roman"/>
              </a:rPr>
              <a:t>Planning a Fitness Progra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61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imes New Roman"/>
              </a:rPr>
              <a:t>Selecting the Right Activit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Where you l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Your range of interes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Your level of heal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2743200"/>
          <a:ext cx="16002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743200"/>
                    <a:ext cx="16002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6104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Time and pla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Personal safe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Comprehensive plann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3962520"/>
          <a:ext cx="2086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962520"/>
                    <a:ext cx="2086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304920"/>
            <a:ext cx="8458200" cy="53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ross-Train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combining various exercise routines to help work different body syste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4648320"/>
          <a:ext cx="152424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64832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934320" y="4648320"/>
          <a:ext cx="1944720" cy="189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648320"/>
                    <a:ext cx="1944720" cy="18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304920"/>
            <a:ext cx="8686800" cy="55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asics of an Exercise Program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Overload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working the body harder than it is normally work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04920"/>
            <a:ext cx="8763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Physical Fitness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bility to carry out daily tasks easily and have enough reserve energy to respond to unexpected dema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41148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6868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Progression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gradual increase in overload necessary for achieving higher levels of fitnes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286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Specificity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articular exercises and activities improve particular areas of health related fitn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38240"/>
            <a:ext cx="8153280" cy="67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In order to derive maximum benefit from an exercise program, you need to include three basic stag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arm-up,workout, and cool-dow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0"/>
            <a:ext cx="868680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Warm-up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engaging in activity that prepares the muscles for the work that is to come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.  Raise body temper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 Stretch large muscles slowly and smooth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.  Perform activity slowly for about 5 minu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924680" y="2286000"/>
          <a:ext cx="102240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0"/>
                    <a:ext cx="102240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8600"/>
            <a:ext cx="9144000" cy="54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Workout-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perform activity at its highest peak.  Needs to follow the “FIT” formula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=Frequenc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how often each we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=Intensit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how hard you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=Tim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how much time each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228600"/>
            <a:ext cx="8458200" cy="70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Frequency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-4 times a we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Intensity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verload,target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Times New Roman"/>
              </a:rPr>
              <a:t>Duration-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0-30 minutes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king at your target hear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238880" y="2286000"/>
          <a:ext cx="144144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286000"/>
                    <a:ext cx="144144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304920"/>
            <a:ext cx="845820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Cool-dow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ngaging in activity to gradually decrease activ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 minutes of slowed activity followed by 5 minutes of stretching.  Heart rate is within 20-30 beats of your regular heart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6868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Monitoring Your Progres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-Do I feel bet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Exercise journ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-Decrease in resting heart rat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3809880"/>
          <a:ext cx="2212920" cy="12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809880"/>
                    <a:ext cx="221292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086600" y="2971800"/>
            <a:ext cx="167652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2971800"/>
            <a:ext cx="2971800" cy="278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0492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400" spc="-1" strike="noStrike">
                <a:solidFill>
                  <a:srgbClr val="00ff00"/>
                </a:solidFill>
                <a:latin typeface="Times New Roman"/>
              </a:rPr>
              <a:t>Benefits of Fitness</a:t>
            </a:r>
            <a:endParaRPr b="0" lang="en-US" sz="1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228600"/>
            <a:ext cx="85345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Physic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Reduces chance of acquiring   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Allows you to be more a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Gives you higher energy leve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Improves your pos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8763120" cy="73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Times New Roman"/>
              </a:rPr>
              <a:t>Mental/Emotional Healt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Makes you intellectually mor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du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Relief from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Helps control de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Sense of pride and accompl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-Contributes to positive self-este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3887640" cy="388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304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Times New Roman"/>
              </a:rPr>
              <a:t>Social Healt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057400"/>
            <a:ext cx="815364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reduces stress that can interfere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 good relationshi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builds self-confid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-gives opportunity to interact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cooperate with oth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38088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Times New Roman"/>
              </a:rPr>
              <a:t>Basic Components of Physical Fitnes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304920"/>
            <a:ext cx="868680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Times New Roman"/>
              </a:rPr>
              <a:t>Body Composi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atio of body fat to lean body tissue, including muscle, bone, water, and connective tissue such as ligaments, cartilage, and tend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: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inch test-using skin calipers, underwater weig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23:52:49Z</dcterms:created>
  <dc:creator>Beth M. Little</dc:creator>
  <dc:description/>
  <dc:language>en-US</dc:language>
  <cp:lastModifiedBy>Chatham County Schools</cp:lastModifiedBy>
  <cp:lastPrinted>1999-09-06T04:37:05Z</cp:lastPrinted>
  <dcterms:modified xsi:type="dcterms:W3CDTF">2005-08-27T19:29:23Z</dcterms:modified>
  <cp:revision>71</cp:revision>
  <dc:subject/>
  <dc:title>No Slide Title</dc:title>
</cp:coreProperties>
</file>